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063-CE39-4760-B5CF-8274A52A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C34-B50E-44FC-8B7B-8FA4C4F1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8B4-5A8E-4104-87AA-D25EF634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05C-FAAF-4F32-8AEA-1F82CF24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57E1-2E40-4A53-9C18-762C4318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6AF0-EC2F-407E-90A2-8A7258F7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BE9C-42B1-4408-AE29-B7F27E81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FCF6-8E0E-47D5-9164-C199C475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3DAE-32BC-4BB6-9570-9F130010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5F5B-D896-4321-A92D-B847EA71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9AE3-3731-40F7-B0C2-8CF387AD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D34-8C90-45A0-ADF5-2C202E28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E105-A632-4901-A5A7-A8780A18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C7F5-17D8-42F6-9BBB-1D6875F8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EA88-B23F-470B-A1D2-2B843DC4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F979-4520-472D-A539-CA496BE4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4060-1C03-4E8E-9E9A-146BCFDA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05D-5793-4215-B1D1-CAB50786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A8E-48BE-4C60-BEAE-981B3396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D2B-CEE9-4E7A-8E8B-D6A38C3A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F3D-3024-486E-85D5-3CF2117E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2FC-F2C5-4E9C-9486-A204EF13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C38-A30F-4265-9167-D0A55E3B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104-D75C-4275-8FD1-34399667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cee1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cee1f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50000">
                  <a:srgbClr val="26d2e4"/>
                </a:gs>
                <a:gs pos="100000">
                  <a:srgbClr val="cee1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C982-8817-4631-9663-790993FCA58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cee1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cee1f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50000">
                  <a:srgbClr val="26d2e4"/>
                </a:gs>
                <a:gs pos="100000">
                  <a:srgbClr val="cee1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f9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CC4F-D35F-488D-A97D-7D480C806BB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lgomes@sp.gov.br" TargetMode="Externa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5120" y="15238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âmara Técnica de Integração de Procedimentos, Ações de Outorga e Ações Reguladoras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437920" y="57909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v/200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4724280"/>
            <a:ext cx="6477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ELHO NACIONAL DE RECURSOS HÍDRIC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CNRH 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3080" y="1676520"/>
            <a:ext cx="84582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Art. 5º São instrumentos da Política Nacional de Recursos Hídrico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 - os Planos de Recursos Hídrico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I - o enquadramento dos corpos de água em classes, segundo os usos preponderantes da água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Times New Roman"/>
              </a:rPr>
              <a:t>III - a outorga dos direitos de uso de recursos hídrico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V - a cobrança pelo uso de recursos hídrico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V - a compensação a município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VI - o Sistema de Informações sobre Recursos Hídricos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552720" y="-720"/>
            <a:ext cx="259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8524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e Lega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topo" descr=""/>
          <p:cNvPicPr/>
          <p:nvPr/>
        </p:nvPicPr>
        <p:blipFill>
          <a:blip r:embed="rId1"/>
          <a:stretch/>
        </p:blipFill>
        <p:spPr>
          <a:xfrm>
            <a:off x="0" y="642636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23920" y="-720"/>
            <a:ext cx="441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/CNR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ribuiçõ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rt. 2º São competências da Câmara Técnic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 - propor diretrizes para integração de procedimentos entre as instituições responsáveis por ações de outorgas e ações reguladoras ligadas a recursos hídricos;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I - propor ações conjuntas entre as instituições, visando otimizar os procedimentos relacionados com assuntos afins;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II - propor diretrizes e ações conjuntas para soluções de conflitos nos usos múltiplos dos recursos hídricos;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V - propor ações mitigadoras e compensatórias; e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V - as competências constantes do Regimento Interno do CNRH e outras que vierem a ser delegadas pelo seu Plenári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soluções elaborada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lução nº. 12 / 2000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enquadramento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lução nº. 16 / 2001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outorg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lução nº. 29 / 2002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outorga - mineração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lução nº. 37 / 2004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outorga - reservatório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477120" y="-720"/>
            <a:ext cx="2590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topo" descr=""/>
          <p:cNvPicPr/>
          <p:nvPr/>
        </p:nvPicPr>
        <p:blipFill>
          <a:blip r:embed="rId6"/>
          <a:stretch/>
        </p:blipFill>
        <p:spPr>
          <a:xfrm>
            <a:off x="0" y="645156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postas de Resolução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tegração dos procedimentos de outorga de uso da água e licenciamento ambient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visto na Lei n. 9.433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Estabelece diretrizes para a integração dos procedimentos de obtenção da outorga de direito de uso de recursos hídricos com os de licenciamento ambiental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III Reunião Ordinária do CNRH – 18/07/200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IV Reunião Ordinária do CNRH – 28/11/200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ano de utilização da água na mineraçã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Estabelece diretrizes para elaboração do Plano de Utilização da Água na Mineração - PUA, conforme previsto na Resolução CNRH n</a:t>
            </a:r>
            <a:r>
              <a:rPr b="0" lang="en-US" sz="1800" spc="-1" strike="noStrike" u="sng" baseline="30000">
                <a:solidFill>
                  <a:srgbClr val="000066"/>
                </a:solidFill>
                <a:uFillTx/>
                <a:latin typeface="Arial"/>
                <a:ea typeface="Times New Roman"/>
              </a:rPr>
              <a:t>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29, de 11 de dezembro de 2002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IV Reunião Ordinária do CNRH – 28/11/200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723920" y="-720"/>
            <a:ext cx="441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/CNR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presentaçõ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ntegrando Políticas Públicas de Saúde, Meio Ambiente e Recursos Hídricos – CVC – Sérgio Valentim – 200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Plano Nacional de Recursos Hídricos – Diretrizes para outorga - 200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11840" indent="-1872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BA, MG, ES, SP, SE e PI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11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Águas Subterrâneas: Diretrizes de Controle em São Paulo – DAEE – Gerôncio Rocha – 200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Sistema Integrado de Gestão do Uso Múltiplo das Águas – Sistema Tietê – Paraná – FCTH/USP - Antônio Camargo Júnior – 200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cedimentos de outorga, licenciamento e concessões de uso de recursos hídricos destinados à geração de energia elétrica – ANA - 200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1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552720" y="-720"/>
            <a:ext cx="2514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topo" descr=""/>
          <p:cNvPicPr/>
          <p:nvPr/>
        </p:nvPicPr>
        <p:blipFill>
          <a:blip r:embed="rId8"/>
          <a:stretch/>
        </p:blipFill>
        <p:spPr>
          <a:xfrm>
            <a:off x="0" y="643896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724280" y="-7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/CNR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066680"/>
            <a:ext cx="7543800" cy="60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mas em discussão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 1616 – Outorga e Fiscalização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T – 9 reuniões (21/02 – 21/11/2005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graçã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dos procedimentos para obtenção da outorga de direito de uso de recursos hídricos com os da pesquisa e lavra de águas minerais, termais, potáveis de mesa ou destinadas a fins balneários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T (CTAS/CTPOAR) – 1ª reunião (24/10/2005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ugestões de Temas para 2006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utorga de águas x saúde;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utorga de lançamento de efluente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477120" y="-720"/>
            <a:ext cx="2590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0" y="643896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Muito Obrigada!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360" y="4952880"/>
            <a:ext cx="746748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66"/>
                </a:solidFill>
                <a:latin typeface="Arial"/>
              </a:rPr>
              <a:t>Leila Carvalho Gom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gomes@sp.gov.b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66"/>
                </a:solidFill>
                <a:latin typeface="Arial"/>
              </a:rPr>
              <a:t>www.cnrh-srh.gov.b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00:02:47Z</dcterms:created>
  <dc:creator>Francisca Sampaio Leão</dc:creator>
  <dc:description/>
  <dc:language>en-US</dc:language>
  <cp:lastModifiedBy>Cliente</cp:lastModifiedBy>
  <dcterms:modified xsi:type="dcterms:W3CDTF">2005-11-21T23:11:10Z</dcterms:modified>
  <cp:revision>18</cp:revision>
  <dc:subject/>
  <dc:title>CTPOAR - CNRH</dc:title>
</cp:coreProperties>
</file>